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057-674A-41BA-A8B8-94727CC1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9A7-B789-4C7F-BBA1-CF95B405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9F3-C75E-47A6-9A78-FC46AF5C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558-665E-448D-8651-49E0C465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428-0708-4F5B-917C-645172E6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853A-9E2E-4A2F-A37B-6759F6C2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D556-9F48-49DA-A38F-95D30D2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BD0-BA6E-4874-80E1-A549ED3D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480F-9815-4A6B-88AF-686A2EF2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A86A-46C9-4F7C-B920-02C13E80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58F1-49E3-45DB-BB97-47E9F5BD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68F-3316-48A9-ACFD-09048827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F298-A21E-4251-A067-3BEAD7867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llel Lines Cut by a Trans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ual:  Make posters showing all the angle relations formed by a pair of parallel lines cut by a transversal.  Be sure to color code definitions and angles, and state the relationships between all possible 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 flipV="1">
            <a:off x="2971800" y="4190760"/>
            <a:ext cx="3124080" cy="14475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 flipV="1">
            <a:off x="4343400" y="4876560"/>
            <a:ext cx="3124080" cy="144756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4038480" y="4572000"/>
            <a:ext cx="3048120" cy="106668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572000" y="44956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267080" y="46483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876920" y="46483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72000" y="48006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172200" y="50292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867280" y="52578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172200" y="54864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6629400" y="5257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34320" y="62485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Smar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llel Lines Cut by a Trans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tory:  Play “Shout Out!!”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diagram below and commands on strips of paper (with correct answers provided), players take turns being the leader to read a command.  The first player to shout out a correct answer to the command, receives a point.  The next player becomes the next leader. Possible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 angle supplemen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 to angle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 angle congru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ngle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985080" y="627696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Smar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5"/>
          <p:cNvGrpSpPr/>
          <p:nvPr/>
        </p:nvGrpSpPr>
        <p:grpSpPr>
          <a:xfrm>
            <a:off x="5105520" y="4724280"/>
            <a:ext cx="3189240" cy="1486080"/>
            <a:chOff x="5105520" y="4724280"/>
            <a:chExt cx="3189240" cy="1486080"/>
          </a:xfrm>
        </p:grpSpPr>
        <p:sp>
          <p:nvSpPr>
            <p:cNvPr id="59" name="Line 6"/>
            <p:cNvSpPr/>
            <p:nvPr/>
          </p:nvSpPr>
          <p:spPr>
            <a:xfrm flipV="1">
              <a:off x="5181480" y="4724280"/>
              <a:ext cx="2594160" cy="12924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7"/>
            <p:cNvSpPr/>
            <p:nvPr/>
          </p:nvSpPr>
          <p:spPr>
            <a:xfrm>
              <a:off x="5762520" y="4911840"/>
              <a:ext cx="2532240" cy="9525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8"/>
            <p:cNvSpPr/>
            <p:nvPr/>
          </p:nvSpPr>
          <p:spPr>
            <a:xfrm>
              <a:off x="6516720" y="4984920"/>
              <a:ext cx="3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9"/>
            <p:cNvSpPr/>
            <p:nvPr/>
          </p:nvSpPr>
          <p:spPr>
            <a:xfrm>
              <a:off x="6327720" y="5113440"/>
              <a:ext cx="3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0"/>
            <p:cNvSpPr/>
            <p:nvPr/>
          </p:nvSpPr>
          <p:spPr>
            <a:xfrm>
              <a:off x="6770520" y="5097600"/>
              <a:ext cx="3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1"/>
            <p:cNvSpPr/>
            <p:nvPr/>
          </p:nvSpPr>
          <p:spPr>
            <a:xfrm>
              <a:off x="6516720" y="5257800"/>
              <a:ext cx="31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5867280" y="533232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3"/>
            <p:cNvSpPr/>
            <p:nvPr/>
          </p:nvSpPr>
          <p:spPr>
            <a:xfrm>
              <a:off x="5662440" y="5457960"/>
              <a:ext cx="31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14"/>
            <p:cNvSpPr/>
            <p:nvPr/>
          </p:nvSpPr>
          <p:spPr>
            <a:xfrm>
              <a:off x="5867280" y="563868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15"/>
            <p:cNvSpPr/>
            <p:nvPr/>
          </p:nvSpPr>
          <p:spPr>
            <a:xfrm>
              <a:off x="6080040" y="5442120"/>
              <a:ext cx="31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>
              <a:off x="5105520" y="5257800"/>
              <a:ext cx="2531880" cy="95256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arallel Lines Cut by a Transver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sthetic:  Walk It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the diagram below on the floor with masking tape.  Two players stand in assigned angles.  As a team, they have to tell what they are called (ie: vertical angles) and their relationships (ie: congruent).  Use all angle combinations, even if there is not a name or relationship.  (ie: 2 and 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934320" y="62485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th &amp; Smarr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"/>
          <p:cNvGrpSpPr/>
          <p:nvPr/>
        </p:nvGrpSpPr>
        <p:grpSpPr>
          <a:xfrm>
            <a:off x="4822920" y="2193840"/>
            <a:ext cx="4208400" cy="3111480"/>
            <a:chOff x="4822920" y="2193840"/>
            <a:chExt cx="4208400" cy="3111480"/>
          </a:xfrm>
        </p:grpSpPr>
        <p:pic>
          <p:nvPicPr>
            <p:cNvPr id="74" name="Picture 6" descr="AG00315_"/>
            <p:cNvPicPr/>
            <p:nvPr/>
          </p:nvPicPr>
          <p:blipFill>
            <a:blip r:embed="rId1"/>
            <a:stretch/>
          </p:blipFill>
          <p:spPr>
            <a:xfrm>
              <a:off x="6570720" y="2193840"/>
              <a:ext cx="981000" cy="10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7" descr="AG00317_"/>
            <p:cNvPicPr/>
            <p:nvPr/>
          </p:nvPicPr>
          <p:blipFill>
            <a:blip r:embed="rId2"/>
            <a:stretch/>
          </p:blipFill>
          <p:spPr>
            <a:xfrm>
              <a:off x="5648400" y="4092480"/>
              <a:ext cx="9810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Line 8"/>
            <p:cNvSpPr/>
            <p:nvPr/>
          </p:nvSpPr>
          <p:spPr>
            <a:xfrm flipV="1">
              <a:off x="4923000" y="2489040"/>
              <a:ext cx="3423960" cy="2197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5689440" y="2808360"/>
              <a:ext cx="3341880" cy="16174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0"/>
            <p:cNvSpPr/>
            <p:nvPr/>
          </p:nvSpPr>
          <p:spPr>
            <a:xfrm>
              <a:off x="6753240" y="3065400"/>
              <a:ext cx="4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1"/>
            <p:cNvSpPr/>
            <p:nvPr/>
          </p:nvSpPr>
          <p:spPr>
            <a:xfrm>
              <a:off x="6464160" y="3230640"/>
              <a:ext cx="4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2"/>
            <p:cNvSpPr/>
            <p:nvPr/>
          </p:nvSpPr>
          <p:spPr>
            <a:xfrm>
              <a:off x="7101000" y="3218040"/>
              <a:ext cx="41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3"/>
            <p:cNvSpPr/>
            <p:nvPr/>
          </p:nvSpPr>
          <p:spPr>
            <a:xfrm>
              <a:off x="6757920" y="3389400"/>
              <a:ext cx="4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4"/>
            <p:cNvSpPr/>
            <p:nvPr/>
          </p:nvSpPr>
          <p:spPr>
            <a:xfrm>
              <a:off x="5827680" y="352260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5557680" y="3824280"/>
              <a:ext cx="417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6"/>
            <p:cNvSpPr/>
            <p:nvPr/>
          </p:nvSpPr>
          <p:spPr>
            <a:xfrm>
              <a:off x="5827680" y="404352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7"/>
            <p:cNvSpPr/>
            <p:nvPr/>
          </p:nvSpPr>
          <p:spPr>
            <a:xfrm>
              <a:off x="6100920" y="379584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4822920" y="3395520"/>
              <a:ext cx="3341520" cy="16192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5:47:02Z</dcterms:created>
  <dc:creator>CABELL BOE</dc:creator>
  <dc:description/>
  <dc:language>en-US</dc:language>
  <cp:lastModifiedBy>CABELL BOE</cp:lastModifiedBy>
  <dcterms:modified xsi:type="dcterms:W3CDTF">2009-06-01T15:47:04Z</dcterms:modified>
  <cp:revision>1</cp:revision>
  <dc:subject/>
  <dc:title>Parallel Lines Cut by a Transversal</dc:title>
</cp:coreProperties>
</file>